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A0869-EC1E-4AE9-A146-3407BC53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5040B-09F1-45EC-8ECF-BA47F049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5581C-1210-4EF8-A6ED-245410F3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01A94-0C48-4C62-A6D0-F92FE855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9A15-3C89-48CA-A6F0-79F3A777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F7D0-A191-43F7-AD72-57C0CA8B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57B6-D9C3-476F-957F-8FE3F322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4052-32D7-4496-BD49-8AC82822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4506-56F0-4A50-8EA0-A4D1275C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BE73-B3CD-40D6-95FC-DD8ECEDD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E624-997C-408D-B492-91067F98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DB13A-4612-41D4-BFE5-3100B0D8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BFBD-81B5-4981-9DDD-7ED222A6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EB0F-718C-4BFD-8C86-14E114DB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FB7C-AC1A-4F30-A7C2-0FF9625F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4AC3-7157-4657-BEA2-DE271148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6993-1942-4C2C-9E47-12B2A91A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D9EF1-381C-41F9-BFB4-473DA2A3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3825F-7B16-41F5-94C4-58282A7A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7E6EA-C0E1-4455-B1FB-52268785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AA699-8418-4B23-812D-39D18F76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6B815-713C-4A3E-B91F-1C4C8A0A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FF403-A6F4-4E89-80A4-1371FB51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7A534-1BF1-4D2F-A947-5EBE3493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3704-30D4-4CEE-8A80-EF34C5140B4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BE84-45BD-4D99-B082-46A78D1F2DA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3040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52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Боже наш, в този мрак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паднати от враг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ъди Помощник благ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сегда Ти наш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пасно е всек' час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ога не Си при н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не се чуй Твой гл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и наш Си страж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44648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че, зовем ние Теб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есден и ч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ъс Твой небесен хляб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храни Ти н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252360" y="53208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Нас очисти от грях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махни и всеки страх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здигни ни от прах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поправ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рувай сила нам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ъс Твоя Дух и плам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видетели без срам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с направ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252360" y="144648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че, зовем ние Теб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есден и ч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ъс Твой небесен хляб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храни Ти н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53136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Изпращай благода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а скоро в целий свя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стигне стар и млад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ивна Ти вес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оди ни в земний мрак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ази Ти наший крак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стигнем вечний бряг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небесна чест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144648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че, зовем ние Теб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есден и ч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ъс Твой небесен хляб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храни Ти н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4-24T09:01:12Z</dcterms:modified>
  <cp:revision>119</cp:revision>
  <dc:subject/>
  <dc:title>Slide 1</dc:title>
</cp:coreProperties>
</file>